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09A2-B002-47BF-BA57-9F23CB9E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2D97-4244-4700-87B1-6B489200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219D-FDD0-40E3-8B03-9ED02A74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967D-201F-4C75-82A1-9A968BB1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4E18-F3B0-4DAE-B673-E5D8A908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698D-DE61-4164-BEC8-2A78EBAC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496E-AC34-4812-B581-C6C33029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446D-35B1-43F5-99C6-D5DBA48B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A7BC-E672-49A0-A769-90B4D64D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D5C8-E758-415F-8591-5211355E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2D2C-61B3-42A1-8684-1D230A4F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133A-62B9-4B66-B4AA-57A9CEC1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7BD9-54BA-49CF-B5B9-21D6CCDBD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24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16360" y="5589720"/>
            <a:ext cx="1439640" cy="431640"/>
          </a:xfrm>
          <a:prstGeom prst="wedgeRectCallout">
            <a:avLst>
              <a:gd name="adj1" fmla="val 31699"/>
              <a:gd name="adj2" fmla="val -302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r I “edge” (new lighthouse requi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5805360"/>
            <a:ext cx="1295640" cy="432000"/>
          </a:xfrm>
          <a:prstGeom prst="wedgeRectCallout">
            <a:avLst>
              <a:gd name="adj1" fmla="val -141546"/>
              <a:gd name="adj2" fmla="val -100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r II (existing lighthous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7:09:02Z</dcterms:created>
  <dc:creator>alialios</dc:creator>
  <dc:description/>
  <dc:language>en-US</dc:language>
  <cp:lastModifiedBy>alialios</cp:lastModifiedBy>
  <dcterms:modified xsi:type="dcterms:W3CDTF">2007-03-26T07:09:58Z</dcterms:modified>
  <cp:revision>2</cp:revision>
  <dc:subject/>
  <dc:title>Slide 1</dc:title>
</cp:coreProperties>
</file>